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5FF-2584-4A18-87A0-51958D58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D95-C9F4-4524-B8DF-14C2DC8F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7B4-38BD-45EC-B312-1791CAC5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FC8-232B-450B-A1CF-E31F3729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F25-B835-44EE-A1B2-A67F065F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217-7045-4520-BF39-EF066F1D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FFD-9484-437B-AA0B-EB799F94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C0E-AA73-4871-9DA6-C662DD2F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EAF-5D2A-4DF8-8470-71282CFC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DFE-BBE2-4242-8105-A2540EE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DCB-ED9B-4BDB-AFB6-5B12FF6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D5C-3739-4D75-91D3-07A046D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5B2-338D-4321-B7EB-B49CAB642A2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4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νωριμία με συμμαθητές και καθηγητ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άλυση θέματος σε επιμέρους παραρτήματ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483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ιαχωρισμός των μαθητών σε 4 ομάδ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ζήτηση και αξιολόγηση αξιόπιστων και μη πληροφορ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ύνταξη ερωτηματολογί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υμπλήρωση ερωτηματολογίων από πολίτες διαφόρων ηλικ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ξιολόγηση και επιλογή τοίχου για σχεδιασμό έργ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λοκλήρωση εργασ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στατιστικών από τα ερωτηματολόγ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ομαδικών και ατομικών ημερολογί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user03</cp:lastModifiedBy>
  <dcterms:modified xsi:type="dcterms:W3CDTF">2013-01-15T12:10:06Z</dcterms:modified>
  <cp:revision>4</cp:revision>
  <dc:subject/>
  <dc:title>52</dc:title>
</cp:coreProperties>
</file>